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4E1-0762-4513-96DC-14A20FE1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754-E0B1-4CE0-83AA-0BA471A0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D75-F3D4-4FCA-AC3B-B1472269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B6F-AC22-4475-8E3E-39998ABD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4D8D-7598-4DFB-8BE9-30109C09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708-8818-431C-A56C-B94B20F5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5B5-EBE4-482E-BBAE-23CA4D36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E16-781E-4ED4-BA31-D36D9F9C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1C9-F83D-4C19-B98A-D4A4F0F1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A7B-F261-482E-A421-BBFBF4AA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33BE-CB8E-4A02-9390-41147C30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CC73-7ABB-4D6F-A74D-AE2AB6CF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2904-71D4-48D8-814B-9069918D6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cc99"/>
                </a:solidFill>
                <a:latin typeface="CAC Futura Casual"/>
              </a:rPr>
              <a:t>Me llamo _________ Clase 6 NH (602)</a:t>
            </a:r>
            <a:br>
              <a:rPr sz="3500"/>
            </a:br>
            <a:r>
              <a:rPr b="0" lang="en-US" sz="3500" spc="-1" strike="noStrike">
                <a:solidFill>
                  <a:srgbClr val="00cc99"/>
                </a:solidFill>
                <a:latin typeface="CAC Futura Casual"/>
              </a:rPr>
              <a:t>La fecha es el 24 de septiembre del 2012</a:t>
            </a:r>
            <a:endParaRPr b="0" lang="en-US" sz="35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CAC Futura Casual"/>
              </a:rPr>
              <a:t>Propósito # 4: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¿Cómo eres tú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CAC Futura Casual"/>
              </a:rPr>
              <a:t>Actividad Inicial: 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Copia y completa con el pronombre correcto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(he)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 __________ es alto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	</a:t>
            </a:r>
            <a:r>
              <a:rPr b="0" i="1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(I)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__________ soy muy cómico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(we)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 __________ somos simpático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(they [girls])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 __________ son bonita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5880" y="3276720"/>
            <a:ext cx="1143000" cy="69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467480" y="3733920"/>
            <a:ext cx="91440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077320" y="4419720"/>
            <a:ext cx="58248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010280" y="5410080"/>
            <a:ext cx="16002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AC Futura Casual"/>
              </a:rPr>
              <a:t>Practica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Leer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C Futura Casual"/>
              </a:rPr>
              <a:t>Conversacion: ¿De dónde son?</a:t>
            </a: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 p. R4, en voz alta.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opia y respond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C Futura Casual"/>
              </a:rPr>
              <a:t>¿Comprendes?</a:t>
            </a: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 p. R4 (1-5)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AC Futura Casual"/>
              </a:rPr>
              <a:t>El verbo “Ser”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Unos de los verbos mas importantes en español es el verbo “Ser” </a:t>
            </a:r>
            <a:r>
              <a:rPr b="0" i="1" lang="es-ES_tradnl" sz="3200" spc="-1" strike="noStrike">
                <a:solidFill>
                  <a:srgbClr val="ffffff"/>
                </a:solidFill>
                <a:latin typeface="CAC Futura Casual"/>
              </a:rPr>
              <a:t>(to be)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Ser” es un verbo especial porque no es como los otros verbo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Ser” es un verbo “irregular”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AC Futura Casual"/>
              </a:rPr>
              <a:t>Conjugacion del verbo “Ser”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El verbo “Ser” se conjuga de la siguiente forma:</a:t>
            </a:r>
            <a:endParaRPr b="0" lang="en-US" sz="30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cc99"/>
                </a:solidFill>
                <a:latin typeface="CAC Futura Casual"/>
              </a:rPr>
              <a:t>Ser</a:t>
            </a:r>
            <a:r>
              <a:rPr b="0" i="1" lang="en-US" sz="3000" spc="-1" strike="noStrike">
                <a:solidFill>
                  <a:srgbClr val="ffffff"/>
                </a:solidFill>
                <a:latin typeface="CAC Futura Casu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CAC Futura Casual"/>
              </a:rPr>
              <a:t>(to be)</a:t>
            </a:r>
            <a:endParaRPr b="0" lang="en-US" sz="20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Yo-  </a:t>
            </a:r>
            <a:r>
              <a:rPr b="1" lang="en-US" sz="3000" spc="-1" strike="noStrike">
                <a:solidFill>
                  <a:srgbClr val="00cc99"/>
                </a:solidFill>
                <a:latin typeface="CAC Futura Casual"/>
              </a:rPr>
              <a:t>Soy</a:t>
            </a: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CAC Futura Casual"/>
              </a:rPr>
              <a:t>(I am)</a:t>
            </a:r>
            <a:endParaRPr b="0" lang="en-US" sz="20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Tú- </a:t>
            </a:r>
            <a:r>
              <a:rPr b="1" lang="en-US" sz="3000" spc="-1" strike="noStrike">
                <a:solidFill>
                  <a:srgbClr val="00cc99"/>
                </a:solidFill>
                <a:latin typeface="CAC Futura Casual"/>
              </a:rPr>
              <a:t>Eres </a:t>
            </a:r>
            <a:r>
              <a:rPr b="0" i="1" lang="en-US" sz="2000" spc="-1" strike="noStrike">
                <a:solidFill>
                  <a:srgbClr val="ffffff"/>
                </a:solidFill>
                <a:latin typeface="CAC Futura Casual"/>
              </a:rPr>
              <a:t>(You ar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amiliar</a:t>
            </a:r>
            <a:r>
              <a:rPr b="0" i="1" lang="en-US" sz="2000" spc="-1" strike="noStrike">
                <a:solidFill>
                  <a:srgbClr val="ffffff"/>
                </a:solidFill>
                <a:latin typeface="CAC Futura Casu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Él ella Ud.- </a:t>
            </a:r>
            <a:r>
              <a:rPr b="1" lang="en-US" sz="3000" spc="-1" strike="noStrike">
                <a:solidFill>
                  <a:srgbClr val="00cc99"/>
                </a:solidFill>
                <a:latin typeface="CAC Futura Casual"/>
              </a:rPr>
              <a:t>Es</a:t>
            </a:r>
            <a:r>
              <a:rPr b="1" lang="en-US" sz="3000" spc="-1" strike="noStrike">
                <a:solidFill>
                  <a:srgbClr val="0000ff"/>
                </a:solidFill>
                <a:latin typeface="CAC Futura Casu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CAC Futura Casual"/>
              </a:rPr>
              <a:t>(s/he is, you ar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lite</a:t>
            </a:r>
            <a:r>
              <a:rPr b="0" i="1" lang="en-US" sz="2000" spc="-1" strike="noStrike">
                <a:solidFill>
                  <a:srgbClr val="ffffff"/>
                </a:solidFill>
                <a:latin typeface="CAC Futura Casu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Nosotros- </a:t>
            </a:r>
            <a:r>
              <a:rPr b="1" lang="en-US" sz="3000" spc="-1" strike="noStrike">
                <a:solidFill>
                  <a:srgbClr val="00cc99"/>
                </a:solidFill>
                <a:latin typeface="CAC Futura Casual"/>
              </a:rPr>
              <a:t>Somos</a:t>
            </a:r>
            <a:r>
              <a:rPr b="1" lang="en-US" sz="3000" spc="-1" strike="noStrike">
                <a:solidFill>
                  <a:srgbClr val="0000ff"/>
                </a:solidFill>
                <a:latin typeface="CAC Futura Casu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CAC Futura Casual"/>
              </a:rPr>
              <a:t>(we are)</a:t>
            </a:r>
            <a:endParaRPr b="0" lang="en-US" sz="20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      </a:t>
            </a:r>
            <a:r>
              <a:rPr b="0" lang="en-US" sz="3000" spc="-1" strike="noStrike">
                <a:solidFill>
                  <a:srgbClr val="ffffff"/>
                </a:solidFill>
                <a:latin typeface="CAC Futura Casual"/>
              </a:rPr>
              <a:t>Ellos ellas Uds- </a:t>
            </a:r>
            <a:r>
              <a:rPr b="1" lang="en-US" sz="3000" spc="-1" strike="noStrike">
                <a:solidFill>
                  <a:srgbClr val="00cc99"/>
                </a:solidFill>
                <a:latin typeface="CAC Futura Casual"/>
              </a:rPr>
              <a:t>Son</a:t>
            </a:r>
            <a:r>
              <a:rPr b="1" lang="en-US" sz="3000" spc="-1" strike="noStrike">
                <a:solidFill>
                  <a:srgbClr val="0000ff"/>
                </a:solidFill>
                <a:latin typeface="CAC Futura Casu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CAC Futura Casual"/>
              </a:rPr>
              <a:t>(They are, you are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lite plural</a:t>
            </a:r>
            <a:r>
              <a:rPr b="0" i="1" lang="en-US" sz="3000" spc="-1" strike="noStrike">
                <a:solidFill>
                  <a:srgbClr val="ffffff"/>
                </a:solidFill>
                <a:latin typeface="CAC Futura Casu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C Futura Casual"/>
              </a:rPr>
              <a:t>Debes MEMORIZAR el verbo SER</a:t>
            </a:r>
            <a:endParaRPr b="0" lang="en-US" sz="30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CAC Futura Casual"/>
              </a:rPr>
              <a:t>Tarea # 4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TEXTBOOK: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Copia y respond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C Futura Casual"/>
              </a:rPr>
              <a:t>Ejercicio 4</a:t>
            </a: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 p. R5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Copia y complet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C Futura Casual"/>
              </a:rPr>
              <a:t>Ejercicio 5</a:t>
            </a: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 p.R5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WORKBOOK: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Completa p. R1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14:27:43Z</dcterms:created>
  <dc:creator>Helen Zumaeta</dc:creator>
  <dc:description/>
  <dc:language>en-US</dc:language>
  <cp:lastModifiedBy>Helen Zumaeta</cp:lastModifiedBy>
  <dcterms:modified xsi:type="dcterms:W3CDTF">2012-09-24T16:02:19Z</dcterms:modified>
  <cp:revision>9</cp:revision>
  <dc:subject/>
  <dc:title>Me llamo _________ Clase 6 NH La fecha es el 13 de enero del 2012</dc:title>
</cp:coreProperties>
</file>